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7.jpeg" ContentType="image/jpeg"/>
  <Override PartName="/ppt/media/image8.wmf" ContentType="image/x-wmf"/>
  <Override PartName="/ppt/media/image5.png" ContentType="image/png"/>
  <Override PartName="/ppt/media/image13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Tahoma"/>
              </a:rPr>
              <a:t>Click to move the slide</a:t>
            </a: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B29A-BD47-4480-A15D-7EAD1C232E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CED4-3331-4A81-B16F-8FB0361948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B484-4DFC-4D21-B0F1-BFEE233B9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E0AF-DAEE-4974-AAE4-98F7A393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85B4AE-114E-4BE0-8659-33BDC5C6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CCFBDB-8276-4F8F-8729-08393474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74EC5-D6C3-421B-B663-93C6926C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86AA05-FE4A-4C66-B719-3DFAB682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B8C300-07AD-40D6-89FF-C2C404A9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982C9-C7FE-4690-AEF0-96DC07BD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A4B46-6107-4B11-82CA-3A5581A8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C5281B-8D84-4E0B-B884-14397740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D19A9-841E-4E7B-96B8-EB2264B6C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2624-3909-4927-B275-72AABD0B2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83D7-7D2F-4B5B-8861-DB6280C5B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B284-992A-4C77-8A9E-45AB40D90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7757-8A8F-47A6-8FD5-A70EDA80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8CAE-9154-4D03-8936-840F6857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8650-9BC2-49E1-B17C-19502AFD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EBAA-1AEB-4416-8BA0-0BBB6164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DEE9-DC74-44D1-937A-82F834D3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C873-1CCF-45A3-A133-DF514C75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2E8B-FF61-495F-BBAC-60BC7B45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DDBE-1095-45D8-A3B7-8A048E36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64C1-6952-4C84-B584-82DD0F99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8C43-B8B5-4175-A0ED-8AC2B416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73F1-E02A-4AF6-9F15-39345311D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3FE4-C7AB-4A50-9976-DE72D7159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40FF3-9F5A-4F53-8D71-F5BC3961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2DCAF-29E9-4132-9F16-3AFAE39A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A1D1F-B01D-4A57-9C71-2FF1C559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6B834-2A67-4269-8BED-52EF55A6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EC2A0-CDB3-4C3A-B30F-BA90EE5E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619B-7825-44EC-9626-C75C816F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1EC99-9C42-4C62-AD9F-54DE2440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568FA-9043-4557-A7D4-DC41FA82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60524-0D5C-4E23-B678-8E77ADF6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559DC-422F-48ED-A51B-BFBC798F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ACD9B-73EA-404E-856D-0C0C9AE7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DAB3D-A7E9-4D2D-91C6-895296C3A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8A069-181A-4556-BFD9-9B6355913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4AEAC-F80B-4843-A1B0-205A26075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CA336-87E1-45C1-ABAD-917DA92E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13FF6-2FEB-4372-A950-8E51CFE1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DBB8-2BB9-4B99-A51D-71BB46E5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0E433-E78C-4DC7-9C76-866E99DE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A4136-5B0D-43A1-8CC1-4F0CC0F3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B80C5-7B56-474F-B54C-DD27ED4C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77FBE-5A9C-467E-B7A4-75C893BA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4E85A-8F17-4218-98F4-AB350808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B806A-B69F-4B2D-864C-DA412478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6D43B-6578-4519-9B0C-67AEFD7B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1C301-84BE-4131-B1F5-102215F59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FF255-21A6-45BC-AE12-3967EEA0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0AAA6-7DC8-4442-BF53-B7B58DEB7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2CD2-370F-4F60-819F-0FD23289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3DA82-BBCC-4686-9B1D-64673794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860B7-FDD6-4887-8332-543DA41A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0F0D6-AE7D-4C65-AC92-D771E95B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61972-45C5-47B5-B4B6-894425DC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E10F6-EF53-4AAC-ABEC-56CF2E39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60B3F-C816-43E3-A1CE-2D445029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189F2-04B7-46F7-9E56-E9F8EABF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948EE-BD1C-49B9-80D8-F09DD971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1F358-A23E-468C-9793-07AA66D8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9180E-4E84-4F99-B78F-7C359B94E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EB13-0B11-4168-AE8D-7090400C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8052B-AA19-4F61-BD78-75F48E72E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2615A-07E7-4AA4-BF6B-ECF6B855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10B05-E7DC-4D35-B3E2-4AA1D144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61B8E-F4CE-48CF-84D8-AFA92B4D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524DF-4A87-420B-9E32-C0B9EEC7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A60B4-4E61-471C-B26A-B20070D4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B8728-D773-4E92-8F4B-14EF693F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866CC-9FD8-4E4F-9759-C122C171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62F29-347F-488C-A130-007961EC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142A8-1590-421E-8827-A3961BEC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A18B-6C7D-4754-B613-14F6800F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531C5-F5F5-40A0-9269-954AC66A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4F7F3-1AA6-4BBA-8C5B-5FB437004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D526D-A0F0-4591-A167-8192A9B8C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C408D-E27C-4C32-A9EE-BF400D5C3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B82FE-8E08-46D9-A2D0-96001C6F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222BA-2BB4-4946-9181-99D0C83D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82AF5-475A-45D3-9191-6AF976FA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C01D3-9309-408D-8399-3D439CFB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ED325-FDBE-4C6D-BEDF-B76F024D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7CF4D-3726-42D5-BD5A-DE01C5AC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7B4D-0AC3-498D-A14B-FFB6B9AF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E2FD0-0D53-4BD6-8C8F-CCD19D24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56A37-B8FF-45EA-A6E1-57B17404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5C24B-0FF0-46EA-A3C3-A51E5A1B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CC692-D38C-47D5-81D2-3963D8066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05FA1-D3E8-4584-A847-BF9450A31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A30A7-E19F-4DE7-A087-8FD7450F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72ACC-0E9D-404E-A89C-FDC42E65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D46E6-40EC-40DD-A46B-75BEAD80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D1574-F3A6-4212-944C-83A069DE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62026-C9FA-432D-B2A5-761115E3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6741-4CC9-425C-B432-13713178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69CAB-0567-4AAD-9A4C-F9F8AFBB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94285-2DFC-4AAC-ACB2-3AE0DED9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FA6E8-2896-4050-84EE-22B01A56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819FD-2125-4C86-AE4E-5B40FBC8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5A6A4-CEC5-498E-8FF8-653A4B0A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82F45-F554-4AD1-8904-94F4834CE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4908D-1A47-4F23-A4F5-91B131B45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998E4-A220-4C3C-9FBB-5253E7049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BA76E-6664-4414-9D1F-CA4519BD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39A48-F702-45C5-BAEF-CE3DF626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" Target="slide2.xml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1872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5F5F-347D-4A3C-848D-B970B58CE88D}" type="datetime">
              <a:rPr b="0" lang="en-US" sz="1200" spc="-1" strike="noStrike">
                <a:solidFill>
                  <a:srgbClr val="b5a788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9866-59F4-4DEA-857C-01F190A820F3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>
            <a:hlinkClick r:id="rId4" action="ppaction://hlinksldjump"/>
          </p:cNvPr>
          <p:cNvSpPr/>
          <p:nvPr/>
        </p:nvSpPr>
        <p:spPr>
          <a:xfrm>
            <a:off x="8244000" y="-720"/>
            <a:ext cx="1042920" cy="246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000" spc="-1" strike="noStrike">
                <a:solidFill>
                  <a:srgbClr val="000000"/>
                </a:solidFill>
                <a:latin typeface="Arial"/>
              </a:rPr>
              <a:t>ДА ЗМЕСТ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>
            <a:hlinkClick r:id="" action="ppaction://hlinkshowjump?jump=nextslide"/>
          </p:cNvPr>
          <p:cNvSpPr/>
          <p:nvPr/>
        </p:nvSpPr>
        <p:spPr>
          <a:xfrm>
            <a:off x="7164360" y="-720"/>
            <a:ext cx="108108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000" spc="-1" strike="noStrike">
                <a:solidFill>
                  <a:srgbClr val="000000"/>
                </a:solidFill>
                <a:latin typeface="Arial"/>
              </a:rPr>
              <a:t>НАСТУПН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>
            <a:hlinkClick r:id="" action="ppaction://hlinkshowjump?jump=previousslide"/>
          </p:cNvPr>
          <p:cNvSpPr/>
          <p:nvPr/>
        </p:nvSpPr>
        <p:spPr>
          <a:xfrm>
            <a:off x="6084720" y="-720"/>
            <a:ext cx="1081080" cy="2462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000" spc="-1" strike="noStrike">
                <a:solidFill>
                  <a:srgbClr val="000000"/>
                </a:solidFill>
                <a:latin typeface="Arial"/>
              </a:rPr>
              <a:t>ПАПЯРЭДН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8E4A-6CD5-4EE4-9E86-168C079973E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885C-8116-419F-BBF7-D015209F27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A548-0C99-4B54-8107-6584713225E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51BD-962B-4F4C-82C4-4B890B9365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35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140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25ED-4995-4356-B108-57B2F8DFC974}" type="datetime">
              <a:rPr b="0" lang="en-US" sz="1200" spc="-1" strike="noStrike">
                <a:solidFill>
                  <a:srgbClr val="b5a788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A65A-70A4-4D09-83A2-055A6A42F084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87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7A7D-08DA-4CA5-B5BB-B08B0FB78F11}" type="datetime">
              <a:rPr b="0" lang="en-US" sz="1200" spc="-1" strike="noStrike">
                <a:solidFill>
                  <a:srgbClr val="b5a788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F663-2561-4992-B7CE-37DC6DB56962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4" action="ppaction://hlinksldjump"/>
          </p:cNvPr>
          <p:cNvSpPr/>
          <p:nvPr/>
        </p:nvSpPr>
        <p:spPr>
          <a:xfrm>
            <a:off x="8101080" y="-720"/>
            <a:ext cx="1042920" cy="246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000" spc="-1" strike="noStrike">
                <a:solidFill>
                  <a:srgbClr val="000000"/>
                </a:solidFill>
                <a:latin typeface="Arial"/>
              </a:rPr>
              <a:t>ДА ЗМЕСТ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" action="ppaction://hlinkshowjump?jump=nextslide"/>
          </p:cNvPr>
          <p:cNvSpPr/>
          <p:nvPr/>
        </p:nvSpPr>
        <p:spPr>
          <a:xfrm>
            <a:off x="7020000" y="7200"/>
            <a:ext cx="108108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000" spc="-1" strike="noStrike">
                <a:solidFill>
                  <a:srgbClr val="000000"/>
                </a:solidFill>
                <a:latin typeface="Arial"/>
              </a:rPr>
              <a:t>НАСТУПН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previousslide"/>
          </p:cNvPr>
          <p:cNvSpPr/>
          <p:nvPr/>
        </p:nvSpPr>
        <p:spPr>
          <a:xfrm>
            <a:off x="5940360" y="-720"/>
            <a:ext cx="1081080" cy="2462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000" spc="-1" strike="noStrike">
                <a:solidFill>
                  <a:srgbClr val="000000"/>
                </a:solidFill>
                <a:latin typeface="Arial"/>
              </a:rPr>
              <a:t>ПАПЯРЭДН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D477-CA16-449F-9EF0-57E67E046435}" type="datetime">
              <a:rPr b="0" lang="en-US" sz="1200" spc="-1" strike="noStrike">
                <a:solidFill>
                  <a:srgbClr val="b5a788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7DB9-BE0E-4B86-A007-70B972298481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936C-421A-4F0B-8BD7-EE370630C25A}" type="datetime">
              <a:rPr b="0" lang="en-US" sz="1200" spc="-1" strike="noStrike">
                <a:solidFill>
                  <a:srgbClr val="b5a788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450C-0DF8-4667-B05C-4D31661FC5EE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C866-3F34-4838-8B4F-56A3F5A7CEBD}" type="datetime">
              <a:rPr b="0" lang="en-US" sz="1200" spc="-1" strike="noStrike">
                <a:solidFill>
                  <a:srgbClr val="b5a788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CDDF-F7A0-4343-B3E4-608E1BF84065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60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C7AF-6F99-4568-88BF-2DC645D2FFEA}" type="datetime">
              <a:rPr b="0" lang="en-US" sz="1200" spc="-1" strike="noStrike">
                <a:solidFill>
                  <a:srgbClr val="b5a788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FC82-BE09-4986-9119-7C636BE6DECC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6.xml"/><Relationship Id="rId5" Type="http://schemas.openxmlformats.org/officeDocument/2006/relationships/slide" Target="slide23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407360" cy="419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700" spc="-1" strike="noStrike">
                <a:solidFill>
                  <a:srgbClr val="ff0000"/>
                </a:solidFill>
                <a:latin typeface="Tahoma"/>
              </a:rPr>
              <a:t>Міністэрства адукацыі Рэспублікі Беларусь</a:t>
            </a:r>
            <a:br>
              <a:rPr sz="1700"/>
            </a:br>
            <a:r>
              <a:rPr b="0" lang="be-BY" sz="1700" spc="-1" strike="noStrike">
                <a:solidFill>
                  <a:srgbClr val="ff0000"/>
                </a:solidFill>
                <a:latin typeface="Tahoma"/>
              </a:rPr>
              <a:t>БЕЛАРУСКІ ДЗЯРЖАЎНЫ ЎНІВЕРСІТЭТ</a:t>
            </a:r>
            <a:br>
              <a:rPr sz="1700"/>
            </a:br>
            <a:r>
              <a:rPr b="0" lang="be-BY" sz="1700" spc="-1" strike="noStrike">
                <a:solidFill>
                  <a:srgbClr val="ff0000"/>
                </a:solidFill>
                <a:latin typeface="Tahoma"/>
              </a:rPr>
              <a:t>Гістарычны факультэт</a:t>
            </a:r>
            <a:br>
              <a:rPr sz="1700"/>
            </a:br>
            <a:br>
              <a:rPr sz="1700"/>
            </a:br>
            <a:r>
              <a:rPr b="1" lang="be-BY" sz="1700" spc="-1" strike="noStrike">
                <a:solidFill>
                  <a:srgbClr val="ff0000"/>
                </a:solidFill>
                <a:latin typeface="Tahoma"/>
              </a:rPr>
              <a:t>Глінскі</a:t>
            </a:r>
            <a:br>
              <a:rPr sz="1700"/>
            </a:br>
            <a:r>
              <a:rPr b="1" lang="be-BY" sz="1700" spc="-1" strike="noStrike">
                <a:solidFill>
                  <a:srgbClr val="ff0000"/>
                </a:solidFill>
                <a:latin typeface="Tahoma"/>
              </a:rPr>
              <a:t>Яўген Станіслававіч</a:t>
            </a:r>
            <a:br>
              <a:rPr sz="1700"/>
            </a:br>
            <a:br>
              <a:rPr sz="800"/>
            </a:br>
            <a:r>
              <a:rPr b="1" lang="be-BY" sz="3200" spc="-1" strike="noStrike">
                <a:solidFill>
                  <a:srgbClr val="ff0000"/>
                </a:solidFill>
                <a:latin typeface="Tahoma"/>
              </a:rPr>
              <a:t>Інтэрпрэтацыя мінулага ў інтэлектуальнай традыцыі Вялікага Княства Літоўскага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XVI </a:t>
            </a:r>
            <a:r>
              <a:rPr b="1" lang="be-BY" sz="3200" spc="-1" strike="noStrike">
                <a:solidFill>
                  <a:srgbClr val="ff0000"/>
                </a:solidFill>
                <a:latin typeface="Tahoma"/>
              </a:rPr>
              <a:t>стагоддзя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1476360" y="4292640"/>
            <a:ext cx="7407360" cy="2160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400" spc="-1" strike="noStrike">
                <a:solidFill>
                  <a:srgbClr val="320e04"/>
                </a:solidFill>
                <a:latin typeface="Tahoma"/>
              </a:rPr>
              <a:t>Магістарская дысертацы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400" spc="-1" strike="noStrike">
                <a:solidFill>
                  <a:srgbClr val="320e04"/>
                </a:solidFill>
                <a:latin typeface="Tahoma"/>
              </a:rPr>
              <a:t>Спецыяльнасць: Айчынная гісторы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700" spc="-1" strike="noStrike">
                <a:solidFill>
                  <a:srgbClr val="320e04"/>
                </a:solidFill>
                <a:latin typeface="Tahoma"/>
              </a:rPr>
              <a:t>Навуковы кіраўнік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700" spc="-1" strike="noStrike">
                <a:solidFill>
                  <a:srgbClr val="320e04"/>
                </a:solidFill>
                <a:latin typeface="Tahoma"/>
              </a:rPr>
              <a:t>кандыдат гістарычных навук, дацэнт Любы А.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62801-E2F9-4576-AED6-CCAC7C8ACEF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300" spc="-1" strike="noStrike">
                <a:solidFill>
                  <a:srgbClr val="ff0000"/>
                </a:solidFill>
                <a:latin typeface="Tahoma"/>
              </a:rPr>
              <a:t>Гістарыяграфія</a:t>
            </a: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716000" y="1341360"/>
            <a:ext cx="421956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200" spc="-1" strike="noStrike">
                <a:solidFill>
                  <a:srgbClr val="000000"/>
                </a:solidFill>
                <a:latin typeface="Arial"/>
              </a:rPr>
              <a:t>Даследчыкі, у асноўным, засяроджвалі сваю ўвагу на аналізе асобных помнікаў ці іх груп, аб’яднаных па прыкмеце жанру (напрыклад, летапісанне) ці аўтара (напрыклад, гістарыяграфічная спадчына Мацея Стрыйкоўскаг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200" spc="-1" strike="noStrike">
                <a:solidFill>
                  <a:srgbClr val="000000"/>
                </a:solidFill>
                <a:latin typeface="Arial"/>
              </a:rPr>
              <a:t>Працы, дзе бы разглядаўся комплекс ідэй аб мінулым, якія існавалі ў ВКЛ, з’явіліся адносна нядаў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32000" y="5734080"/>
            <a:ext cx="345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400" spc="-1" strike="noStrike">
                <a:solidFill>
                  <a:srgbClr val="000000"/>
                </a:solidFill>
                <a:latin typeface="Arial"/>
              </a:rPr>
              <a:t>Мікалай Мікалаевіч Улашчык – адзін з найбуйнейшых даследчыкаў інтэлектуальнай традыцыі ВК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1258920" y="1628640"/>
            <a:ext cx="3508200" cy="380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195F-7724-42A2-930B-1C799002C8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900" spc="-1" strike="noStrike">
                <a:solidFill>
                  <a:srgbClr val="ff0000"/>
                </a:solidFill>
                <a:latin typeface="Tahoma"/>
              </a:rPr>
              <a:t>Даследаванне Эвы Ленард</a:t>
            </a:r>
            <a:endParaRPr b="0" lang="en-US" sz="39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116000" y="1285560"/>
            <a:ext cx="741672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500" spc="-1" strike="noStrike">
                <a:solidFill>
                  <a:srgbClr val="000000"/>
                </a:solidFill>
                <a:latin typeface="Arial"/>
              </a:rPr>
              <a:t>Праца польскага гісторыка Эвы Ленард – </a:t>
            </a:r>
            <a:r>
              <a:rPr b="0" lang="be-BY" sz="1500" spc="-1" strike="noStrike">
                <a:solidFill>
                  <a:srgbClr val="000000"/>
                </a:solidFill>
                <a:latin typeface="Arial"/>
              </a:rPr>
              <a:t>адзінае даследаванне інтэлектуальнай традыцыі ВКЛ, здзейсненае з выкарыстаннем інфармацыйных тэхналогі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500" spc="-1" strike="noStrike">
                <a:solidFill>
                  <a:srgbClr val="000000"/>
                </a:solidFill>
                <a:latin typeface="Arial"/>
              </a:rPr>
              <a:t>Мэта:</a:t>
            </a:r>
            <a:r>
              <a:rPr b="0" lang="be-BY" sz="1500" spc="-1" strike="noStrike">
                <a:solidFill>
                  <a:srgbClr val="000000"/>
                </a:solidFill>
                <a:latin typeface="Arial"/>
              </a:rPr>
              <a:t> высветліць, ці асэнсоўвалі летапісцы мінулае ў катэгорыях дзяржавы і нацыі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500" spc="-1" strike="noStrike">
                <a:solidFill>
                  <a:srgbClr val="000000"/>
                </a:solidFill>
                <a:latin typeface="Arial"/>
              </a:rPr>
              <a:t>Метадалагічны падыход:</a:t>
            </a:r>
            <a:r>
              <a:rPr b="0" lang="be-BY" sz="1500" spc="-1" strike="noStrike">
                <a:solidFill>
                  <a:srgbClr val="000000"/>
                </a:solidFill>
                <a:latin typeface="Arial"/>
              </a:rPr>
              <a:t> заснаваны на камп’ютарных падліках кантэнт-аналіз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500" spc="-1" strike="noStrike">
                <a:solidFill>
                  <a:srgbClr val="000000"/>
                </a:solidFill>
                <a:latin typeface="Arial"/>
              </a:rPr>
              <a:t>Высновы:</a:t>
            </a:r>
            <a:r>
              <a:rPr b="0" lang="be-BY" sz="1500" spc="-1" strike="noStrike">
                <a:solidFill>
                  <a:srgbClr val="000000"/>
                </a:solidFill>
                <a:latin typeface="Arial"/>
              </a:rPr>
              <a:t> падлікі паказалі ўзрастаючую частотнасць апісання летапісцамі падзей праз прызму дзяржаўных і этнічных катэгорый</a:t>
            </a:r>
            <a:r>
              <a:rPr b="0" lang="be-BY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Содержимое 6"/>
          <p:cNvGraphicFramePr/>
          <p:nvPr/>
        </p:nvGraphicFramePr>
        <p:xfrm>
          <a:off x="2484360" y="3645000"/>
          <a:ext cx="5297400" cy="3009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41" name="Содержимое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4360" y="3645000"/>
                    <a:ext cx="5297400" cy="30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F5CC-542E-4D12-92C2-293D7C6AA7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900" spc="-1" strike="noStrike">
                <a:solidFill>
                  <a:srgbClr val="ff0000"/>
                </a:solidFill>
                <a:latin typeface="Tahoma"/>
              </a:rPr>
              <a:t>Палітычныя і сацыяльныя аспекты ў асэнсаванні мінулага ў ВКЛ у </a:t>
            </a:r>
            <a:r>
              <a:rPr b="1" lang="en-US" sz="2900" spc="-1" strike="noStrike">
                <a:solidFill>
                  <a:srgbClr val="ff0000"/>
                </a:solidFill>
                <a:latin typeface="Tahoma"/>
              </a:rPr>
              <a:t>XVI </a:t>
            </a:r>
            <a:r>
              <a:rPr b="1" lang="be-BY" sz="2900" spc="-1" strike="noStrike">
                <a:solidFill>
                  <a:srgbClr val="ff0000"/>
                </a:solidFill>
                <a:latin typeface="Tahoma"/>
              </a:rPr>
              <a:t>ст.</a:t>
            </a:r>
            <a:endParaRPr b="0" lang="en-US" sz="29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402920" y="1699920"/>
            <a:ext cx="3745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200" spc="-1" strike="noStrike">
                <a:solidFill>
                  <a:srgbClr val="000000"/>
                </a:solidFill>
                <a:latin typeface="Arial"/>
              </a:rPr>
              <a:t>Выкарыстанне мінулага ў творах “Гаштольдаўскай” традыцыі і летапісанні XVI ст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200" spc="-1" strike="noStrike">
                <a:solidFill>
                  <a:srgbClr val="000000"/>
                </a:solidFill>
                <a:latin typeface="Arial"/>
              </a:rPr>
              <a:t>Гістарычная аргументацыя ў літаратурных і публіцыстычных творах XVI ст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200" spc="-1" strike="noStrike">
                <a:solidFill>
                  <a:srgbClr val="000000"/>
                </a:solidFill>
                <a:latin typeface="Arial"/>
              </a:rPr>
              <a:t>Канструяванне вобразу мінулага ВКЛ у працах Мацея Стрыйкоўскаг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364000" y="5877000"/>
            <a:ext cx="36007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500" spc="-1" strike="noStrike">
                <a:solidFill>
                  <a:srgbClr val="000000"/>
                </a:solidFill>
                <a:latin typeface="Arial"/>
              </a:rPr>
              <a:t>Другі летапісны звод (1520-1530-я гг.) – помнік інтэлектуальнай традыцыі ВК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5508720" y="1484280"/>
            <a:ext cx="339732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4726-00D8-4CBF-8516-6A56F07BED7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600" spc="-1" strike="noStrike">
                <a:solidFill>
                  <a:srgbClr val="ff0000"/>
                </a:solidFill>
                <a:latin typeface="Tahoma"/>
              </a:rPr>
              <a:t>Выкарыстанне мінулага ў творах “Гаштольдаўскай” традыцыі і летапісанні</a:t>
            </a:r>
            <a:endParaRPr b="0" lang="en-US" sz="2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285920" y="1557000"/>
            <a:ext cx="764856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00000"/>
                </a:solidFill>
                <a:latin typeface="Arial"/>
              </a:rPr>
              <a:t>Магнаты ВКЛ выкарыстоўвалі гісторыю ў некалькіх асноўных напрамка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Arial"/>
              </a:rPr>
              <a:t>для павышэння прэстыжу ўласнага паходжання – “рымская легенда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Arial"/>
              </a:rPr>
              <a:t>для павышэння прэстыжу дзяржавы – Другі летапісны звод, “Хроніка Быхаўца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Arial"/>
              </a:rPr>
              <a:t>для барацьбы са сваімі палітычнымі канкурэнтамі – Ліст Марціна Гаштольда да каралевы Бо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6287-5D22-4E7F-9B60-9D199D217C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03280" y="475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0000"/>
                </a:solidFill>
                <a:latin typeface="Tahoma"/>
              </a:rPr>
              <a:t>Гістарычная аргументацыя ў літаратурных і публіцыстычных творах</a:t>
            </a:r>
            <a:endParaRPr b="0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1434960" y="1700280"/>
            <a:ext cx="749952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100" spc="-1" strike="noStrike">
                <a:solidFill>
                  <a:srgbClr val="000000"/>
                </a:solidFill>
                <a:latin typeface="Arial"/>
              </a:rPr>
              <a:t>Гістарычныя звесткі складалі важную частку не толькі ўласна гістарыяграфічных твораў, але таксама і помнікаў літаратуры і публіцыстыкі. Іх аўтары звярталіся да тых ці іншых прыкладаў з мінуўшчыны для ўсхвалення альбо адмаўлення ці ў якасці падмацавання сваіх поглядаў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100" spc="-1" strike="noStrike">
                <a:solidFill>
                  <a:srgbClr val="000000"/>
                </a:solidFill>
                <a:latin typeface="Arial"/>
              </a:rPr>
              <a:t>Магнацкая і родавая “рымская легенда” ў Міхалона Літвіна ператвараецца ў частку аргументацыі для “прашляхецкага” трактату “Пра норавы...”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100" spc="-1" strike="noStrike">
                <a:solidFill>
                  <a:srgbClr val="000000"/>
                </a:solidFill>
                <a:latin typeface="Arial"/>
              </a:rPr>
              <a:t>Публіцыстыка 60-х – пачатку 70-х гг. XVI ст. цікавілася перадусім пытаннямі характару ўлады ў ВКЛ у даўнія часы, што было звязана са спрэчкамі паміж элітамі ВКЛ і Польшчы наконт пераваг дзяржаўнага ладу ў той ці іншай краін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9AFF-6C7A-43ED-BCF9-0BAD8D4A29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ff0000"/>
                </a:solidFill>
                <a:latin typeface="Tahoma"/>
              </a:rPr>
              <a:t>Канструяванне вобразу мінулага ў працах Мацея Стрыйкоўскага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1547280" y="1447560"/>
            <a:ext cx="7386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Мацей Стрыйкоўскі (1547 – каля 1590) быў не толькі храністам, а таксама паэтам і публіцыстам, але найбольш вядомы ён дзякуючы выдадзенай у 1582 г. “Хроніцы польскай, літоўскай, жамойцкай і ўсёй Русі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Стрыйкоўскі, незадаволены сучаснасцю, канструяваў вобраз мінулага, у якім стварыў антыпод зменлівай рэчаіснасц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Дзве ідэі – “гісторыя як стымул” і “добрае мінулае” – адыгравалі вызначальную ролю ў дыскурсе Мацея Стрыйкоўска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4A9D-BCB5-4023-B73E-CDA811A97F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ff0000"/>
                </a:solidFill>
                <a:latin typeface="Tahoma"/>
              </a:rPr>
              <a:t>Карціны мінулага ВКЛ у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XVI </a:t>
            </a:r>
            <a:r>
              <a:rPr b="1" lang="be-BY" sz="3200" spc="-1" strike="noStrike">
                <a:solidFill>
                  <a:srgbClr val="ff0000"/>
                </a:solidFill>
                <a:latin typeface="Tahoma"/>
              </a:rPr>
              <a:t>ст.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332000" y="2060640"/>
            <a:ext cx="3657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Arial"/>
              </a:rPr>
              <a:t>Перспектывы ўспрыняцця мінулага ВКЛ 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VI </a:t>
            </a:r>
            <a:r>
              <a:rPr b="0" lang="be-BY" sz="2800" spc="-1" strike="noStrike">
                <a:solidFill>
                  <a:srgbClr val="000000"/>
                </a:solidFill>
                <a:latin typeface="Arial"/>
              </a:rPr>
              <a:t>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be-BY" sz="2800" spc="-1" strike="noStrike">
                <a:solidFill>
                  <a:srgbClr val="000000"/>
                </a:solidFill>
                <a:latin typeface="Arial"/>
              </a:rPr>
              <a:t>Дзяржаўная” перспектыва ў гістарычнай думцы В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Текст 8" descr=""/>
          <p:cNvPicPr/>
          <p:nvPr/>
        </p:nvPicPr>
        <p:blipFill>
          <a:blip r:embed="rId2"/>
          <a:stretch/>
        </p:blipFill>
        <p:spPr>
          <a:xfrm>
            <a:off x="5292720" y="2205000"/>
            <a:ext cx="3657600" cy="290664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5435640" y="5300640"/>
            <a:ext cx="345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400" spc="-1" strike="noStrike">
                <a:solidFill>
                  <a:srgbClr val="000000"/>
                </a:solidFill>
                <a:latin typeface="Arial"/>
              </a:rPr>
              <a:t>Частка тэксту 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pitome principum Lituaniae</a:t>
            </a:r>
            <a:r>
              <a:rPr b="1" lang="be-BY" sz="1400" spc="-1" strike="noStrike">
                <a:solidFill>
                  <a:srgbClr val="000000"/>
                </a:solidFill>
                <a:latin typeface="Arial"/>
              </a:rPr>
              <a:t>” з першай поўнай публікацыі, здзейсненай Янам Якубоўскім у 1912 годз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8C49-A803-47A5-9FBA-6A0EC36B85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600" spc="-1" strike="noStrike">
                <a:solidFill>
                  <a:srgbClr val="ff0000"/>
                </a:solidFill>
                <a:latin typeface="Tahoma"/>
              </a:rPr>
              <a:t>Перспектывы ўспрыняцця мінулага ВКЛ у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XVI </a:t>
            </a:r>
            <a:r>
              <a:rPr b="1" lang="be-BY" sz="3600" spc="-1" strike="noStrike">
                <a:solidFill>
                  <a:srgbClr val="ff0000"/>
                </a:solidFill>
                <a:latin typeface="Tahoma"/>
              </a:rPr>
              <a:t>ст.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116000" y="1523520"/>
            <a:ext cx="763272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0000"/>
                </a:solidFill>
                <a:latin typeface="Arial"/>
              </a:rPr>
              <a:t>Гіпотэза Э. Ленард:</a:t>
            </a: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 з цягам часу змянялася канцэпцыя гісторыі ў беларуска-літоўскіх летапісах: ад “гісторыі ўладароў” да большай увагі да жыцця пэўных грамадскіх гру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2340000" y="3213000"/>
          <a:ext cx="5834160" cy="3322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0000" y="3213000"/>
                    <a:ext cx="583416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1D64-F9A5-4787-8644-DF6C150D41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74977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600" spc="-1" strike="noStrike">
                <a:solidFill>
                  <a:srgbClr val="ff0000"/>
                </a:solidFill>
                <a:latin typeface="Tahoma"/>
              </a:rPr>
              <a:t>Перспектывы ўспрыняцця мінулага ВКЛ у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XVI </a:t>
            </a:r>
            <a:r>
              <a:rPr b="1" lang="be-BY" sz="3600" spc="-1" strike="noStrike">
                <a:solidFill>
                  <a:srgbClr val="ff0000"/>
                </a:solidFill>
                <a:latin typeface="Tahoma"/>
              </a:rPr>
              <a:t>ст.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1258920" y="4581360"/>
            <a:ext cx="760248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pitome principum Lituaniae</a:t>
            </a:r>
            <a:r>
              <a:rPr b="1" lang="be-BY" sz="19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be-BY" sz="1900" spc="-1" strike="noStrike">
                <a:solidFill>
                  <a:srgbClr val="000000"/>
                </a:solidFill>
                <a:latin typeface="Arial"/>
              </a:rPr>
              <a:t> – твор 1576 г., г.зн. пазнейшы за прааналізаваныя Эвай Ленард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000000"/>
                </a:solidFill>
                <a:latin typeface="Arial"/>
              </a:rPr>
              <a:t>Асноўная ўвага (гл. дыяграму) надаецца менавіта ўладара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900" spc="-1" strike="noStrike">
                <a:solidFill>
                  <a:srgbClr val="000000"/>
                </a:solidFill>
                <a:latin typeface="Arial"/>
              </a:rPr>
              <a:t>Выснова:</a:t>
            </a:r>
            <a:r>
              <a:rPr b="0" lang="be-BY" sz="1900" spc="-1" strike="noStrike">
                <a:solidFill>
                  <a:srgbClr val="000000"/>
                </a:solidFill>
                <a:latin typeface="Arial"/>
              </a:rPr>
              <a:t> залежнасць не ад часу напісання, а ад намераў аўтар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2340000" y="1484280"/>
          <a:ext cx="5688000" cy="3054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0000" y="1484280"/>
                    <a:ext cx="5688000" cy="30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8659-EA8D-4E73-B120-EF880841AE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400" spc="-1" strike="noStrike">
                <a:solidFill>
                  <a:srgbClr val="ff0000"/>
                </a:solidFill>
                <a:latin typeface="Tahoma"/>
              </a:rPr>
              <a:t>Успрыняцце мінулага ў “Хроніцы Быхаўца” і “</a:t>
            </a:r>
            <a:r>
              <a:rPr b="1" lang="en-US" sz="3400" spc="-1" strike="noStrike">
                <a:solidFill>
                  <a:srgbClr val="ff0000"/>
                </a:solidFill>
                <a:latin typeface="Tahoma"/>
              </a:rPr>
              <a:t>Epitome</a:t>
            </a:r>
            <a:r>
              <a:rPr b="1" lang="be-BY" sz="3400" spc="-1" strike="noStrike">
                <a:solidFill>
                  <a:srgbClr val="ff0000"/>
                </a:solidFill>
                <a:latin typeface="Tahoma"/>
              </a:rPr>
              <a:t>”</a:t>
            </a:r>
            <a:endParaRPr b="0" lang="en-US" sz="34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4067280" y="4076640"/>
          <a:ext cx="4667040" cy="2656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7280" y="4076640"/>
                    <a:ext cx="466704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1258920" y="1413000"/>
          <a:ext cx="4667040" cy="265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58920" y="1413000"/>
                    <a:ext cx="466704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F0DF-D5F9-4FC5-939E-78F849A7C6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300" spc="-1" strike="noStrike">
                <a:solidFill>
                  <a:srgbClr val="ff0000"/>
                </a:solidFill>
                <a:latin typeface="Tahoma"/>
              </a:rPr>
              <a:t>Змест</a:t>
            </a: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213920" y="1447920"/>
            <a:ext cx="772020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 u="sng">
                <a:solidFill>
                  <a:srgbClr val="8dc765"/>
                </a:solidFill>
                <a:uFillTx/>
                <a:latin typeface="Tahoma"/>
                <a:hlinkClick r:id="rId2" action="ppaction://hlinksldjump"/>
              </a:rPr>
              <a:t>Мэта і задачы работы</a:t>
            </a:r>
            <a:r>
              <a:rPr b="0" lang="be-BY" sz="3200" spc="-1" strike="noStrike" u="sng">
                <a:solidFill>
                  <a:srgbClr val="8dc765"/>
                </a:solidFill>
                <a:uFillTx/>
                <a:latin typeface="Tahoma"/>
                <a:hlinkClick r:id="rId3" action="ppaction://hlinksldjump"/>
              </a:rPr>
              <a:t>. Яе актуальнасць і навіз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 u="sng">
                <a:solidFill>
                  <a:srgbClr val="8dc765"/>
                </a:solidFill>
                <a:uFillTx/>
                <a:latin typeface="Tahoma"/>
                <a:hlinkClick r:id="rId4" action="ppaction://hlinksldjump"/>
              </a:rPr>
              <a:t>Аб’ект і прадмет даследа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Tahoma"/>
              </a:rPr>
              <a:t>Крыніцы і гістарыяграф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Arial"/>
              </a:rPr>
              <a:t>Палітычныя і сацыяльныя аспекты ў асэнсаванні мінулага ў ВКЛ XVI 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Arial"/>
              </a:rPr>
              <a:t>Карціны мінулага ВКЛ у XVI 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Tahoma"/>
              </a:rPr>
              <a:t>Высновы</a:t>
            </a:r>
            <a:r>
              <a:rPr b="0" lang="be-BY" sz="3200" spc="-1" strike="noStrike" u="sng">
                <a:solidFill>
                  <a:srgbClr val="8dc765"/>
                </a:solidFill>
                <a:uFillTx/>
                <a:latin typeface="Tahoma"/>
                <a:hlinkClick r:id="rId5" action="ppaction://hlinksldjump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4F19-F224-49BB-932D-A96051F4AA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03280" y="40428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lang="be-BY" sz="3200" spc="-1" strike="noStrike">
                <a:solidFill>
                  <a:srgbClr val="ff0000"/>
                </a:solidFill>
                <a:latin typeface="Tahoma"/>
              </a:rPr>
              <a:t>Дзяржаўная” перспектыва ў гістарычнай думцы ВКЛ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187280" y="1699920"/>
            <a:ext cx="3889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be-BY" sz="2700" spc="-1" strike="noStrike">
                <a:solidFill>
                  <a:srgbClr val="000000"/>
                </a:solidFill>
                <a:latin typeface="Arial"/>
              </a:rPr>
              <a:t>Дзяржаўны” пункт погляду на мінулае ВКЛ быў артыкуляваны толькі Мацеем Стрыйкоўскі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700" spc="-1" strike="noStrike">
                <a:solidFill>
                  <a:srgbClr val="000000"/>
                </a:solidFill>
                <a:latin typeface="Arial"/>
              </a:rPr>
              <a:t>Сваю задачу храніст бачыў перадусім у асвятленні гісторыі дзяржавы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Текст 8" descr=""/>
          <p:cNvPicPr/>
          <p:nvPr/>
        </p:nvPicPr>
        <p:blipFill>
          <a:blip r:embed="rId2"/>
          <a:stretch/>
        </p:blipFill>
        <p:spPr>
          <a:xfrm>
            <a:off x="5435640" y="1700280"/>
            <a:ext cx="3483000" cy="466416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5796000" y="638172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600" spc="-1" strike="noStrike">
                <a:solidFill>
                  <a:srgbClr val="000000"/>
                </a:solidFill>
                <a:latin typeface="Arial"/>
              </a:rPr>
              <a:t>Мацей Стрыйкоўск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C36A-9F70-433E-BBE6-0309B26673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lang="be-BY" sz="3200" spc="-1" strike="noStrike">
                <a:solidFill>
                  <a:srgbClr val="ff0000"/>
                </a:solidFill>
                <a:latin typeface="Tahoma"/>
              </a:rPr>
              <a:t>Дзяржаўная” перспектыва ў гістарычнай думцы ВКЛ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1434960" y="1523880"/>
            <a:ext cx="385776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100" spc="-1" strike="noStrike">
                <a:solidFill>
                  <a:srgbClr val="000000"/>
                </a:solidFill>
                <a:latin typeface="Arial"/>
              </a:rPr>
              <a:t>Праявы “дзяржаўнай” перспектывы ў Стрыйкоўскаг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000000"/>
                </a:solidFill>
                <a:latin typeface="Arial"/>
              </a:rPr>
              <a:t>пры адборы фактаў звяртаў галоўную ўвагу на “пачатак і вывад” народу і дзяржавы, а таксама на слаўныя ўчынкі з мінулага, якія ішлі на славу і карысць Айчын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be-BY" sz="1900" spc="-1" strike="noStrike">
                <a:solidFill>
                  <a:srgbClr val="000000"/>
                </a:solidFill>
                <a:latin typeface="Arial"/>
              </a:rPr>
              <a:t>дзяржаўную” перспектыву ў храніста ўскладняў дваісты харатар дзяржавы – як Вялікага Княства Літоўскага і як Рэчы Паспаліта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Текст 8" descr=""/>
          <p:cNvPicPr/>
          <p:nvPr/>
        </p:nvPicPr>
        <p:blipFill>
          <a:blip r:embed="rId2"/>
          <a:stretch/>
        </p:blipFill>
        <p:spPr>
          <a:xfrm>
            <a:off x="5697360" y="1579680"/>
            <a:ext cx="2816280" cy="455292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5724360" y="6093000"/>
            <a:ext cx="280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600" spc="-1" strike="noStrike">
                <a:solidFill>
                  <a:srgbClr val="000000"/>
                </a:solidFill>
                <a:latin typeface="Arial"/>
              </a:rPr>
              <a:t>Старонка з “Хронікі” Мацея Стрыйкоўска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5207-72DC-4280-AD58-0ADAC15D4B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300" spc="-1" strike="noStrike">
                <a:solidFill>
                  <a:srgbClr val="ff0000"/>
                </a:solidFill>
                <a:latin typeface="Tahoma"/>
              </a:rPr>
              <a:t>Высновы</a:t>
            </a: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332000" y="1483920"/>
            <a:ext cx="7246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200" spc="-1" strike="noStrike">
                <a:solidFill>
                  <a:srgbClr val="000000"/>
                </a:solidFill>
                <a:latin typeface="Arial"/>
              </a:rPr>
              <a:t>Успрыняцце і асэнсаванне ўласнага мінулага былі важнай складовай часткай грамадскай думкі Вялікага Княства Літоўскага ў XVI ст., бо ўяўленні пра гісторыю заўжды (і гэты перыяд не быў выключэннем) шчыльна звязаны з актуальнымі патрэбамі грамадскага жыцц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200" spc="-1" strike="noStrike">
                <a:solidFill>
                  <a:srgbClr val="000000"/>
                </a:solidFill>
                <a:latin typeface="Arial"/>
              </a:rPr>
              <a:t>У магістарскай дысертацыі разгледжана фарміраванне і развіццё гістарычных уяўленняў у ВКЛ у двух напрамках. Першы з іх прадугледжваў вызначэнне ідэйных падстаў звароту да мінулага, выяўленне варыянтаў інтэрпрэтацыі пэўных падзей у інтарэсах палітычных групаў, сацыяльных катэгорый ці рэлігійных супольнасцяў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7F3C-F068-4380-AF8A-03E68CD76C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300" spc="-1" strike="noStrike">
                <a:solidFill>
                  <a:srgbClr val="ff0000"/>
                </a:solidFill>
                <a:latin typeface="Tahoma"/>
              </a:rPr>
              <a:t>Высновы</a:t>
            </a: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476000" y="1447920"/>
            <a:ext cx="74581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900" spc="-1" strike="noStrike">
                <a:solidFill>
                  <a:srgbClr val="000000"/>
                </a:solidFill>
                <a:latin typeface="Arial"/>
              </a:rPr>
              <a:t>У XVI ст. свае “карціну мінулага” стварылі спачатку магнаты, якія і былі галоўнымі замаўляльнікамі “гісторыі”:  “Гаштольдаўская традыцыя”, “Хроніка Вялікага Княства Літоўскага і Жамойцкага”, “Хроніка Быхаўца”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61080" indent="-2797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900" spc="-1" strike="noStrike">
                <a:solidFill>
                  <a:srgbClr val="000000"/>
                </a:solidFill>
                <a:latin typeface="Arial"/>
              </a:rPr>
              <a:t>Толькі ў панаванне Жыгімонта ІІ Аўгуста была спроба стварыць “ягелонскую” гісторыю ВКЛ, чаму выказам з’яўляліся працы Аўгустына Ратундус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A46C-9019-48CC-AEBF-D01D966057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300" spc="-1" strike="noStrike">
                <a:solidFill>
                  <a:srgbClr val="ff0000"/>
                </a:solidFill>
                <a:latin typeface="Tahoma"/>
              </a:rPr>
              <a:t>Высновы</a:t>
            </a: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1434960" y="1447560"/>
            <a:ext cx="749952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Arial"/>
              </a:rPr>
              <a:t>Другі напрамак працы зводзіўся да адаптацыі для аналізу гістарычных тэкстаў, створаных у ВКЛ у XV–XVI ст., метадаў нараталогіі і вызначэння “перспектыў успрыняцця мінулага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Arial"/>
              </a:rPr>
              <a:t>Існаваў шэраг перспектыў успрыняцця мінулага, якія маглі выкарыстоўвацца аўтарамі ў залежнасці ад мэты іх твораў: перспектывы абсалютна дасканалага героя, роду, дынастыі, магнацкай ці шляхецкай супольнасці і дзяржав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7F33-FDB8-4ED2-9C3F-F57B182DE7C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857240" y="20718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5000" spc="-1" strike="noStrike">
                <a:solidFill>
                  <a:srgbClr val="ff0000"/>
                </a:solidFill>
                <a:latin typeface="Tahoma"/>
              </a:rPr>
              <a:t>Дзякуй за ўвагу!</a:t>
            </a:r>
            <a:endParaRPr b="0" lang="en-US" sz="5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38397-5D3A-41DC-973C-E0D5207E1710}" type="slidenum">
              <a:t>25</a:t>
            </a:fld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500" spc="-1" strike="noStrike">
                <a:solidFill>
                  <a:srgbClr val="ff0000"/>
                </a:solidFill>
                <a:latin typeface="Tahoma"/>
              </a:rPr>
              <a:t>Мэта даследавання. Яго актуальнасць і навізна</a:t>
            </a:r>
            <a:endParaRPr b="0" lang="en-US" sz="35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213920" y="1447560"/>
            <a:ext cx="7720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100" spc="-1" strike="noStrike">
                <a:solidFill>
                  <a:srgbClr val="000000"/>
                </a:solidFill>
                <a:latin typeface="Tahoma"/>
              </a:rPr>
              <a:t>Мэта:</a:t>
            </a:r>
            <a:r>
              <a:rPr b="0" lang="be-BY" sz="2100" spc="-1" strike="noStrike">
                <a:solidFill>
                  <a:srgbClr val="000000"/>
                </a:solidFill>
                <a:latin typeface="Tahoma"/>
              </a:rPr>
              <a:t> комплексны аналіз фарміравання і развіцця ўяўленняў пра ўласнае мінулае ў ВКЛ у XVI ст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100" spc="-1" strike="noStrike">
                <a:solidFill>
                  <a:srgbClr val="000000"/>
                </a:solidFill>
                <a:latin typeface="Tahoma"/>
              </a:rPr>
              <a:t>Актуальнасць работы.</a:t>
            </a:r>
            <a:r>
              <a:rPr b="0" lang="be-BY" sz="2100" spc="-1" strike="noStrike">
                <a:solidFill>
                  <a:srgbClr val="000000"/>
                </a:solidFill>
                <a:latin typeface="Tahoma"/>
              </a:rPr>
              <a:t> Даследаванне ўяўленняў людзей XVI ст. аб іх мінулым дазваляе зразумець сістэму каштоўнасцяў грамадства тых часоў і такім чынам пазбегнуць спрашчэнняў і мадэрнізацыі ў трактоўцы мінулага з пазіцый сённяшняга дн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100" spc="-1" strike="noStrike">
                <a:solidFill>
                  <a:srgbClr val="000000"/>
                </a:solidFill>
                <a:latin typeface="Arial"/>
              </a:rPr>
              <a:t>Навуковая навізна</a:t>
            </a:r>
            <a:r>
              <a:rPr b="0" lang="be-BY" sz="2100" spc="-1" strike="noStrike">
                <a:solidFill>
                  <a:srgbClr val="000000"/>
                </a:solidFill>
                <a:latin typeface="Arial"/>
              </a:rPr>
              <a:t> даследавання палягае ў пераадоленні відавой замкнёнасці пры комплексным аналізе твораў аб мінулым, калі асобна разглядаліся гістарыяграфічныя працы, асобна – публіцыстыка і літаратурныя творы і г.д. Таксама выкарыстанне метадаў іншых навук (літаратуразнаўства) дазволіла па-новаму зірнуць на працэс гісторыяпісання ў ВКЛ у XVI ст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B30A-0AFD-4C79-A5C6-492DD801F6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300" spc="-1" strike="noStrike">
                <a:solidFill>
                  <a:srgbClr val="ff0000"/>
                </a:solidFill>
                <a:latin typeface="Tahoma"/>
              </a:rPr>
              <a:t>Задачы даследавання</a:t>
            </a: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000" spc="-1" strike="noStrike">
                <a:solidFill>
                  <a:srgbClr val="000000"/>
                </a:solidFill>
                <a:latin typeface="Tahoma"/>
              </a:rPr>
              <a:t>прааналізаваць працэс назапашвання ведаў па гісторыі Вялікага Княства Літоўскага ў XVI ст.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1080" indent="-27972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000" spc="-1" strike="noStrike">
                <a:solidFill>
                  <a:srgbClr val="000000"/>
                </a:solidFill>
                <a:latin typeface="Tahoma"/>
              </a:rPr>
              <a:t>удакладніць час і абставіны стварэння ў дадзены перыяд галоўных наратываў аб мінулым ВКЛ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1080" indent="-2797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000" spc="-1" strike="noStrike">
                <a:solidFill>
                  <a:srgbClr val="000000"/>
                </a:solidFill>
                <a:latin typeface="Arial"/>
              </a:rPr>
              <a:t>раскрыць, як адбывалася абранне аўтарамі гістарычных фактаў для выкарыстання іх ва ўласных творах;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8D51-DDC5-49A0-98E4-8232916246A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300" spc="-1" strike="noStrike">
                <a:solidFill>
                  <a:srgbClr val="ff0000"/>
                </a:solidFill>
                <a:latin typeface="Tahoma"/>
              </a:rPr>
              <a:t>Задачы даследавання</a:t>
            </a: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Arial"/>
              </a:rPr>
              <a:t>вызначыць найбольш уплывовыя ў працэсе стварэння карціны (карцін) мінулага сацыяльныя груп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Arial"/>
              </a:rPr>
              <a:t>прааналізаваць ідэйнае значэнне звароту да тых ці іншых эпох, падзей, постацей з мінулага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Arial"/>
              </a:rPr>
              <a:t>вызначыць адрознае і падобнае ў бачанні мінулага ў наратывах з ВКЛ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A157-1B00-4BCD-810D-058FE6280E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500" spc="-1" strike="noStrike">
                <a:solidFill>
                  <a:srgbClr val="ff0000"/>
                </a:solidFill>
                <a:latin typeface="Tahoma"/>
              </a:rPr>
              <a:t>Аб’ект і прадмет даследавання</a:t>
            </a:r>
            <a:endParaRPr b="0" lang="en-US" sz="35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332000" y="1447560"/>
            <a:ext cx="7812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400" spc="-1" strike="noStrike">
                <a:solidFill>
                  <a:srgbClr val="000000"/>
                </a:solidFill>
                <a:latin typeface="Arial"/>
              </a:rPr>
              <a:t>Аб’ектам</a:t>
            </a:r>
            <a:r>
              <a:rPr b="0" lang="be-BY" sz="3400" spc="-1" strike="noStrike">
                <a:solidFill>
                  <a:srgbClr val="000000"/>
                </a:solidFill>
                <a:latin typeface="Arial"/>
              </a:rPr>
              <a:t> даследавання з’яўляюцца гістарыяграфічныя, публіцыстычныя, літаратурныя творы XVI ст., у якіх змяшчаюцца аповяды пра мінулае ВК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1080" indent="-2797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400" spc="-1" strike="noStrike">
                <a:solidFill>
                  <a:srgbClr val="000000"/>
                </a:solidFill>
                <a:latin typeface="Arial"/>
              </a:rPr>
              <a:t>Прадмет даследавання</a:t>
            </a:r>
            <a:r>
              <a:rPr b="0" lang="be-BY" sz="3400" spc="-1" strike="noStrike">
                <a:solidFill>
                  <a:srgbClr val="000000"/>
                </a:solidFill>
                <a:latin typeface="Arial"/>
              </a:rPr>
              <a:t> – уяўленні пра мінулае ВКЛ, уласцівыя грамадскай думцы XVI ст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2EA6-CA7C-4E15-ABD7-5AF6DA100F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600" spc="-1" strike="noStrike">
                <a:solidFill>
                  <a:srgbClr val="ff0000"/>
                </a:solidFill>
                <a:latin typeface="Tahoma"/>
              </a:rPr>
              <a:t>Крыніцы і гістарыяграфія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258920" y="2708280"/>
            <a:ext cx="39607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Arial"/>
              </a:rPr>
              <a:t>Крыні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0000"/>
                </a:solidFill>
                <a:latin typeface="Arial"/>
              </a:rPr>
              <a:t>Гістарыяграф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508720" y="5805360"/>
            <a:ext cx="338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600" spc="-1" strike="noStrike">
                <a:solidFill>
                  <a:srgbClr val="000000"/>
                </a:solidFill>
                <a:latin typeface="Arial"/>
              </a:rPr>
              <a:t>Тытульны аркуш першага выдання (1615 г.) “Аб норавах...” Міхалона Літві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3487680" cy="434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ED6C-8463-4993-886F-0E3969F514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300" spc="-1" strike="noStrike">
                <a:solidFill>
                  <a:srgbClr val="ff0000"/>
                </a:solidFill>
                <a:latin typeface="Tahoma"/>
              </a:rPr>
              <a:t>Крыніцы</a:t>
            </a: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116000" y="1412640"/>
            <a:ext cx="417672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Корпус крыніц, у якіх адлюстраваны ўяўленні аб мінулым у ВКЛ у XVI ст., даволі шырокі. Гэта летапісы і хронікі, публіцыстычныя і мастацкія творы, эпісталярная спадчы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Дакументальныя крыніцы ўжыты ў якасці дапамож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580000" y="5877000"/>
            <a:ext cx="316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600" spc="-1" strike="noStrike">
                <a:solidFill>
                  <a:srgbClr val="000000"/>
                </a:solidFill>
                <a:latin typeface="Arial"/>
              </a:rPr>
              <a:t>Старонка з першага выданн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e-BY" sz="1600" spc="-1" strike="noStrike">
                <a:solidFill>
                  <a:srgbClr val="000000"/>
                </a:solidFill>
                <a:latin typeface="Arial"/>
              </a:rPr>
              <a:t>(1516 г.) “Прускай вайны” Яна Вісліцка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5796000" y="1413000"/>
            <a:ext cx="2768400" cy="452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6A01-FF9B-4786-8423-FE79D91686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300" spc="-1" strike="noStrike">
                <a:solidFill>
                  <a:srgbClr val="ff0000"/>
                </a:solidFill>
                <a:latin typeface="Tahoma"/>
              </a:rPr>
              <a:t>Крыніцы</a:t>
            </a:r>
            <a:endParaRPr b="0" lang="en-US" sz="43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1476360" y="1413000"/>
            <a:ext cx="7499520" cy="49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200" spc="-1" strike="noStrike">
                <a:solidFill>
                  <a:srgbClr val="000000"/>
                </a:solidFill>
                <a:latin typeface="Arial"/>
              </a:rPr>
              <a:t>Дадзены комплекс крыніц дазваляе прасачыць працэс развіцця ўяўленняў пра мінулае ў ВКЛ у XV–XVI ст. Так, гістарыяграфічныя творы адначасова і фарміравалі гістарычную свядомасць грамадства, і былі яе адлюстраванн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200" spc="-1" strike="noStrike">
                <a:solidFill>
                  <a:srgbClr val="000000"/>
                </a:solidFill>
                <a:latin typeface="Arial"/>
              </a:rPr>
              <a:t>Асэнсаванне мінулага адбывалася не толькі ў межах уласна жанру гістарыяграфіі, стаўленне грамадства да сваёй гісторыі ў цэлым і да асобных яе перыядаў выяўляецца таксама праз аналіз публіцыстыкі і твораў прыгожага пісьменства, дзе яскрава адбіліся погляды тых ці іншых палітычных і сацыяльных колаў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6AD4-1048-4974-B9D8-0158E75B06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22:01:19Z</dcterms:created>
  <dc:creator>redmarket.by</dc:creator>
  <dc:description/>
  <dc:language>en-US</dc:language>
  <cp:lastModifiedBy>User</cp:lastModifiedBy>
  <dcterms:modified xsi:type="dcterms:W3CDTF">2011-12-04T19:05:15Z</dcterms:modified>
  <cp:revision>87</cp:revision>
  <dc:subject/>
  <dc:title>Выкарыстанне інфармацыйных тэхналогій у даследаванні гісторыі грамадскай думкі Вялікага Княства Літоўскага XVI стагоддзя</dc:title>
</cp:coreProperties>
</file>